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F89B-13B6-44C6-B0FC-FCD6A295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84B3-33A1-46F8-AACC-E72522A4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F270-B0BC-445C-B50A-03F8302B1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AE0B-E496-494E-A240-8C71E9D27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FC2-86DD-41AB-888A-4FE614E8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D1E-F8C0-480C-A59C-C91EF799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E36-F6CB-48F7-9CB6-EE411585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275E-B661-4647-A7CD-6CAE3D17F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5DAF-E031-40AF-BE5F-CC4A88AD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8CD-30A7-4E97-BE7B-E15315AB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FAB-2AE5-488B-9C32-DDDFA6ACB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AB8-951B-4760-8665-21CE5E4A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4B7-5DC8-4F28-B428-F3164803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F6C-0D7E-40D8-BE44-46F56712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357-14BA-490A-9054-59349225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B94-A323-46EB-B630-00D11B04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F90-926C-41D5-AA2F-4884A122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8DFF-EE7D-46CA-BFE4-53CF0D5D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8C7A-4D92-441E-8C77-7D1601D5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4756-8FFD-4703-B336-F563D435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7361-2E41-474F-8D43-077AA097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9E77-A51C-42AA-831E-555C0BE0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CBF-6994-43B4-872A-F92C5E7F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2352-9614-4F49-BC50-CE26CE84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7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ylakoid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ADP+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lvin_cycle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ubisco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glycolysis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erobic_respiration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rebs_cycl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ergy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thermodynamics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etabolism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photosynthesis.wav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cellular_respiration.wav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adenosine_triphosphate.wav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90560" y="2021040"/>
            <a:ext cx="858204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excites electrons in photosystem II and also causes a water molecule to split, releasing an electron into the electron transport system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ylak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, an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6768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90560" y="299556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-acceptor molecule transfers the electrons along a serie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785880" y="1633680"/>
            <a:ext cx="8739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stem I transfers the electrons to a protein called ferrodox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785880" y="2928960"/>
            <a:ext cx="8739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odoxin transfers the electrons to the electron carrier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a6000d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the energy-storing molecule NAD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0392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ase Two: 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90560" y="2021040"/>
            <a:ext cx="34765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cond phase of photosynthesis, called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alvin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5715000" cy="3549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55627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85880" y="1643040"/>
            <a:ext cx="89676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combine with six 5-carbon compounds to form twelve 3-carbon molecules called 3-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785880" y="331308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ATP and NADPH is transferred to the 3-PGA molecules to form high-energy molecules called G3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785880" y="130032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3P molecules leave the cycle to be used for the production of glucose and other organic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85880" y="297036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called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ubis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85880" y="4646520"/>
            <a:ext cx="8967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olecules combine with new carbon dioxide molecules to continue the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5880" y="130032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lternative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1995480"/>
            <a:ext cx="8967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785880" y="270036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verview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790560" y="202104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obtain energy in a process called cellular re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790560" y="321948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for cellular respiration is the opposite of the equation for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h 8 eq 15"/>
          <p:cNvPicPr/>
          <p:nvPr/>
        </p:nvPicPr>
        <p:blipFill>
          <a:blip r:embed="rId1"/>
          <a:stretch/>
        </p:blipFill>
        <p:spPr>
          <a:xfrm>
            <a:off x="1128600" y="4705200"/>
            <a:ext cx="82296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85880" y="164304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 occurs in two main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97080" y="234792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297080" y="305424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5" descr="ch 8 im 16"/>
          <p:cNvPicPr/>
          <p:nvPr/>
        </p:nvPicPr>
        <p:blipFill>
          <a:blip r:embed="rId1"/>
          <a:stretch/>
        </p:blipFill>
        <p:spPr>
          <a:xfrm>
            <a:off x="2085840" y="3795840"/>
            <a:ext cx="6324840" cy="2644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4382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AUDIO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124080"/>
            <a:ext cx="40968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90560" y="3219480"/>
            <a:ext cx="835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olecules of ATP and two molecules of NADH are formed for each molecule of glucose that is broke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7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Cellula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817640" y="245268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1824120" y="310356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1819440" y="3730680"/>
            <a:ext cx="7397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90560" y="3219480"/>
            <a:ext cx="83534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energy from the glucose is still contained in the pyru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90560" y="4410000"/>
            <a:ext cx="865836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ies of reactions in which pyruvate is broken down into carbon dioxide is called the Krebs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785880" y="1643040"/>
            <a:ext cx="44719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 yield from the Krebs cycle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ch 8 im 19"/>
          <p:cNvPicPr/>
          <p:nvPr/>
        </p:nvPicPr>
        <p:blipFill>
          <a:blip r:embed="rId1"/>
          <a:stretch/>
        </p:blipFill>
        <p:spPr>
          <a:xfrm>
            <a:off x="5448240" y="1019160"/>
            <a:ext cx="44197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tep in the breakdown of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90560" y="2732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at which ATP is p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790560" y="343548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790560" y="2021040"/>
            <a:ext cx="8810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erobic pathway that follow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90560" y="2732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297080" y="343548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97080" y="414972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8" descr="Vlab_100"/>
          <p:cNvPicPr/>
          <p:nvPr/>
        </p:nvPicPr>
        <p:blipFill>
          <a:blip r:embed="rId1"/>
          <a:stretch/>
        </p:blipFill>
        <p:spPr>
          <a:xfrm>
            <a:off x="5408640" y="4876920"/>
            <a:ext cx="4268880" cy="1216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3"/>
          <p:cNvSpPr/>
          <p:nvPr/>
        </p:nvSpPr>
        <p:spPr>
          <a:xfrm>
            <a:off x="7161120" y="5105520"/>
            <a:ext cx="23637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ansformation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90560" y="2725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ermodyna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9440" y="21337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33526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ws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90560" y="2021040"/>
            <a:ext cx="8810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90560" y="369720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totrophs and Heterotro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90560" y="196380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are organisms that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90560" y="310032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 are organisms that need to ingest food to obtai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ch8 im3"/>
          <p:cNvPicPr/>
          <p:nvPr/>
        </p:nvPicPr>
        <p:blipFill>
          <a:blip r:embed="rId1"/>
          <a:stretch/>
        </p:blipFill>
        <p:spPr>
          <a:xfrm>
            <a:off x="2149560" y="4282920"/>
            <a:ext cx="61848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90560" y="202104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90560" y="2728800"/>
            <a:ext cx="8582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from the Sun is converted to chemical energy for use by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90560" y="4408560"/>
            <a:ext cx="8582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s are broken down to release energy for use by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560" y="14479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8098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5486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TP: The Unit of Cellula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90560" y="2021040"/>
            <a:ext cx="5000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eases energy when the bond between the second and third phosphate groups is broken, forming a molecule called adenosine diphosphate (ADP) and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ch 8 im 5"/>
          <p:cNvPicPr/>
          <p:nvPr/>
        </p:nvPicPr>
        <p:blipFill>
          <a:blip r:embed="rId1"/>
          <a:stretch/>
        </p:blipFill>
        <p:spPr>
          <a:xfrm>
            <a:off x="6161040" y="2057400"/>
            <a:ext cx="3059280" cy="3046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60199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logo"/>
          <p:cNvPicPr/>
          <p:nvPr/>
        </p:nvPicPr>
        <p:blipFill>
          <a:blip r:embed="rId4"/>
          <a:srcRect l="0" t="0" r="24373" b="0"/>
          <a:stretch/>
        </p:blipFill>
        <p:spPr>
          <a:xfrm>
            <a:off x="5562720" y="5511960"/>
            <a:ext cx="4343400" cy="911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0"/>
          <p:cNvSpPr/>
          <p:nvPr/>
        </p:nvSpPr>
        <p:spPr>
          <a:xfrm>
            <a:off x="8375760" y="5635800"/>
            <a:ext cx="793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verview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90560" y="2014560"/>
            <a:ext cx="8962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 occurs in two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97080" y="271476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297080" y="341460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ch 8 eq 6"/>
          <p:cNvPicPr/>
          <p:nvPr/>
        </p:nvPicPr>
        <p:blipFill>
          <a:blip r:embed="rId1"/>
          <a:stretch/>
        </p:blipFill>
        <p:spPr>
          <a:xfrm>
            <a:off x="1419120" y="4371840"/>
            <a:ext cx="7655040" cy="12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ase One: 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90560" y="2021040"/>
            <a:ext cx="89629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rption of light is the first step in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790560" y="3205080"/>
            <a:ext cx="8962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lasts capture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ch 8 im 7"/>
          <p:cNvPicPr/>
          <p:nvPr/>
        </p:nvPicPr>
        <p:blipFill>
          <a:blip r:embed="rId1"/>
          <a:stretch/>
        </p:blipFill>
        <p:spPr>
          <a:xfrm>
            <a:off x="2157480" y="3795840"/>
            <a:ext cx="61722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1-24T16:19:06Z</dcterms:modified>
  <cp:revision>479</cp:revision>
  <dc:subject/>
  <dc:title>Glencoe Biology</dc:title>
</cp:coreProperties>
</file>